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CCB-FE6C-4FE9-B325-F4BDC3C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C9E-6934-4E19-87FB-9F89951D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2C0-0962-4DD7-B192-DB1B3430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90A-FBCC-4842-9A51-AF95FA47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583-7BC4-4AE1-9745-9D74812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277-2E60-499A-B780-E5C8922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88D-9C59-4926-ADDB-FF41F58C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79F-AFFB-4F8F-815C-5A27E065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5CA-8334-4B33-960E-22780AF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6E8-9B4B-4EA1-B467-912C2FD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A12-196F-40D2-9B71-73D8B03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065-C09C-4316-89A9-725587D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AD08-9B0A-481B-BD34-7283630263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77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Las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os últimos años, el uso de las drogas ha aumentado* considerablemente en Esp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ña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Las drogas son importadas desde Colombia y La República Dominic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ocabular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umentad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o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9080" y="32050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011480" cy="326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52600" y="3738600"/>
            <a:ext cx="3657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2600" y="3738600"/>
            <a:ext cx="4800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8900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dad promedia* de inicio para empezar* a drogarse ha disminuido. Los jóvene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 entre quince y veinticuatro años  tienen fácil aceso a las drogas. Hay muchos tipos de drogas disponibles*, por ejemplo cocaína, cannabis y éxtasis. El consumo privado de Cannabis es legal en Españ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ocabulario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dad promed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verag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ez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onib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4365720"/>
            <a:ext cx="4343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260280"/>
            <a:ext cx="739152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s Hech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*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lombia representa el 54% del cultivo de coca a nivel*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mayor* parte de la cocaína se consume en América especialmente los Estad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 Europa hay 3,5 milliones de usarios dr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drid es el principal punto de entrada a Europa de coca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ambién, es el pais donde más se toma en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ocabulario: los hecho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niv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y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re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51:59Z</dcterms:created>
  <dc:creator>default user</dc:creator>
  <dc:description/>
  <dc:language>en-US</dc:language>
  <cp:lastModifiedBy>Owner1</cp:lastModifiedBy>
  <dcterms:modified xsi:type="dcterms:W3CDTF">2008-10-19T15:18:25Z</dcterms:modified>
  <cp:revision>7</cp:revision>
  <dc:subject/>
  <dc:title>PowerPoint Presentation</dc:title>
</cp:coreProperties>
</file>